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111-9D3B-4448-8C9D-6119E288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4B9-C6D7-4F14-A3FA-FE43951E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82A-2F09-4401-A915-448A01A3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BC7-CEA3-4C2D-9CD0-B934E45C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C5BE-E196-4174-973F-4E19854D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FD61-6C01-4CEF-B56B-A432976D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784C-377C-4A5A-B0A6-BD99CFE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71BE-CEB3-4DE8-9464-AB3218B7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DF5C-90AD-48FC-9DE0-EBE8C34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D35E-6085-4BF0-9E24-71B555C3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C47B-B8B9-446E-9670-6251395F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451-9CFE-4519-A241-39B6692F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3039-D11D-480E-B4C5-5483712D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0191-BD0C-443F-A188-5BC1B53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31D9-7050-47EB-B386-6C786676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3648-DD22-47EF-9E23-33CFB332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0FF4-D6FE-439A-8CB7-44D7F403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90B58-CACD-4AA1-A4A6-467EAE15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79575-DD77-4A47-93DD-410CAB32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61A3A-F284-4544-8405-ED63D979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96BB0-2AF1-4C2C-BFBC-4BD16660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9DE68-927C-4EF9-AADC-286464A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F50-2802-4CE4-BDF7-C08FBCC6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3B428-F46C-4F0D-B002-A006311F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81E04-CA6B-4D0E-AD1F-5DB6A51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F8D4D-76D4-4B3A-89D8-72C82544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AF873-C64E-4FB0-9CAD-AB4E3C3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D261A-E97C-4D30-8D70-4A507C2A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2677C-45EF-46F9-931D-D6E39AD6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BFAAB-94DF-4F0A-8598-88218F90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251D9-D44F-4EB6-B4F6-8D7190FD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57FF4-D063-46D1-837E-55FF0B55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71FC-EDB9-4FBC-9C0A-66E9D6E2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EDF-27EB-4943-AA2E-C3F2BDCF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813F-06BD-4E50-A5C5-1FD59982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0B89-FF9E-44E1-A25D-A3FC33A3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15A70-1B51-4515-AE74-4B5C4F8C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C889-D421-461C-825C-D62C046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4F86-8AE4-4776-90A5-65FEDA4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2DAD-E9BC-41C1-8F51-033269FE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FFE10-007B-4FC2-8C02-2EB89874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8A0F-25B9-43F9-908B-674DBDC6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5AA2-E320-4FC9-A150-BB9D2EE7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9FE-45C2-4D23-A35F-7B713D07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452-F534-4CBB-9DE9-50A1406B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AB9-4445-4FE6-BEB6-18D2E3FE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D91-3DE9-4498-A3BB-B40D3501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570-CADB-4A83-9293-5A812B10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0C29-A905-47E1-8E3E-9A01A038DDF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B71-662C-47D7-8CCD-93F98C46306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80F7-24AE-44A8-A111-E8CD44865F4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F2C0-A4F0-47ED-A09A-2C1FA7AC94E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Information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elle was arranging furniture in her bedroom.  Her dresser was 4 feet wide and her bed was 6 feet wide.  She had a chair that was 36 inches wide a bookcase that was 2 feet wide.  She drew a picture of her room to help her decide where to put thing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52480" y="3962520"/>
          <a:ext cx="6096240" cy="2011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2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7" name="Straight Arrow Connector 7"/>
          <p:cNvCxnSpPr/>
          <p:nvPr/>
        </p:nvCxnSpPr>
        <p:spPr>
          <a:xfrm>
            <a:off x="5105520" y="5790960"/>
            <a:ext cx="25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9"/>
          <p:cNvCxnSpPr/>
          <p:nvPr/>
        </p:nvCxnSpPr>
        <p:spPr>
          <a:xfrm flipH="1">
            <a:off x="1828800" y="579096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0"/>
          <p:cNvSpPr/>
          <p:nvPr/>
        </p:nvSpPr>
        <p:spPr>
          <a:xfrm>
            <a:off x="80010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8 ft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0" name="Straight Arrow Connector 12"/>
          <p:cNvCxnSpPr/>
          <p:nvPr/>
        </p:nvCxnSpPr>
        <p:spPr>
          <a:xfrm>
            <a:off x="8000640" y="396216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1" name="TextBox 15"/>
          <p:cNvSpPr/>
          <p:nvPr/>
        </p:nvSpPr>
        <p:spPr>
          <a:xfrm>
            <a:off x="9144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1752480" y="4191120"/>
            <a:ext cx="228600" cy="533160"/>
          </a:xfrm>
          <a:prstGeom prst="rect">
            <a:avLst/>
          </a:prstGeom>
          <a:solidFill>
            <a:srgbClr val="72a376"/>
          </a:solidFill>
          <a:ln w="190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3" name="Straight Arrow Connector 18"/>
          <p:cNvCxnSpPr/>
          <p:nvPr/>
        </p:nvCxnSpPr>
        <p:spPr>
          <a:xfrm>
            <a:off x="1599840" y="41907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4" name="Rectangle 19"/>
          <p:cNvSpPr/>
          <p:nvPr/>
        </p:nvSpPr>
        <p:spPr>
          <a:xfrm>
            <a:off x="5638680" y="3962520"/>
            <a:ext cx="2057400" cy="304560"/>
          </a:xfrm>
          <a:prstGeom prst="rect">
            <a:avLst/>
          </a:prstGeom>
          <a:solidFill>
            <a:srgbClr val="72a376"/>
          </a:solidFill>
          <a:ln w="190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579132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6" name="Straight Arrow Connector 22"/>
          <p:cNvCxnSpPr/>
          <p:nvPr/>
        </p:nvCxnSpPr>
        <p:spPr>
          <a:xfrm>
            <a:off x="5638320" y="434304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Mon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any inches wide is Estelle’s dresser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Tues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is the perimeter of Estelle’s room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Wednes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any inches of wall space would be needed if her bed and dresser were sitting side by sid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Thurs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any inches wider is the bed than the chair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Fri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Estelle put the dresser and the chair in the 12 foot wall, how many feet would not be used for furnitur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21:42:23Z</dcterms:created>
  <dc:creator>127partidak</dc:creator>
  <dc:description/>
  <dc:language>en-US</dc:language>
  <cp:lastModifiedBy>127partidak</cp:lastModifiedBy>
  <dcterms:modified xsi:type="dcterms:W3CDTF">2012-02-10T22:11:55Z</dcterms:modified>
  <cp:revision>3</cp:revision>
  <dc:subject/>
  <dc:title>Information</dc:title>
</cp:coreProperties>
</file>